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wmf" ContentType="image/x-wmf"/>
  <Override PartName="/ppt/media/image18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4.wmf" ContentType="image/x-wmf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17DF-91D7-4F32-8679-A2E0099C604E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142F-634D-4072-9BA3-4231482CF43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BA1C-CB5F-464D-8F2C-6D0993EEA95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B394-058F-4186-A251-F7F80CBA7FA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5DC9-A2B1-46A5-8BA2-AC766A9E9D2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75C8-EB9F-45C8-8691-F660B77AC1F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11D4-A4E7-490F-AA44-3FDCA328EC2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52E9-3892-4E43-B297-6118A018957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7AF2-CED3-41C7-A355-DB85247D952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FC82-A4E6-4CD4-939B-34093D04E91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9DF4-6F2A-4FBA-8650-6A367046C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C506-3FA1-4B47-9AC3-28E139AFC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2A8B-BFAA-48E8-B760-8A61D2676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ai parādās kopīgas tend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A36C-3A1C-4EBB-B49D-00782DA321F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89B3-860E-4960-A814-2A2253E73D7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1D77-80E7-43EA-B3ED-7EB18D8984C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6070-AFEF-4AB2-8F49-068274550B4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3DA5-0B21-4E6B-B890-6C55CE58143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D1AA-1FD5-4CC2-95E3-3E886275486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4897-B507-4EA0-AF1C-60F66A932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D12C-0545-4E0D-93F5-132C9CAD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5028-8783-41CE-BF9C-D14F4E4D4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BA26-FB79-4619-843B-14CD040EA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2860-1824-4C31-B447-A32127AE7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1A6CD-FE94-4CAF-A6BA-7CD457FD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0769-55FC-45A5-8F08-72B4FD77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4AE0-458D-47DF-A2CF-8FA3E011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7CBF-38B0-49F4-BCBF-4785C9ED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4C38-6C99-4693-BF32-98C78483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32AE-16AE-4C4E-B9DC-28E17E55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47AB-4C93-4608-A731-39A34BB7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4C77-937A-4B75-AD78-39AFF09B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5E30-CD59-481B-A7FA-3B0DB095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00E25-178A-48E9-A5A9-BCE90590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11FA-FF43-4CF1-997F-B184B4314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51E4-8FCA-48F2-B7ED-417E8556E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1601-FB92-46F6-9643-9B6EA469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39FC-1403-4F0C-8B96-BF819AD2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8AB6-C0CA-420D-841B-1A8DF5C8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195D-6A7B-4CE1-AF7C-31E15A2B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2861-73AB-42BF-B772-A6DF312E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F174-2541-48E0-A128-A78560C0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0EEE-DC4B-4F71-AAF3-B5D73B97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33DB-CEB7-459F-BF35-2C1B8FAB2EC6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7C91-CDE8-4B82-B810-0B3B23A5175E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nva.gov.lv/karjera/testi/lv/selfcheck_b/test/new_test/" TargetMode="External"/><Relationship Id="rId2" Type="http://schemas.openxmlformats.org/officeDocument/2006/relationships/hyperlink" Target="http://www.niid.lv/tests/testi/tests4_1.php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vidus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53964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Ž. HOLLANDA TIPOLOĢIJ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468360" y="134136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250920" y="1413000"/>
            <a:ext cx="87487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Var izdalīt sešus personību tipus un sešus darba vides/profesiju pamattipus, kas atbilst katram no iepriekš minētajiem personību tipi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Prakt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Izzinoš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Māksliniec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Sociāl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Uzņēmīg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Konvencionālo tip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Cilvēks savai profesionālai darbībai meklē tādu vidi, kurā viņš spētu atklāt savu personību, parādīt un attīstīt savas prasmes un spējas, paust savu attieksmi un vērtējumu, kā arī – pieņemt noteikumus, kurus izvirza konkrētais profesionālās darbības veid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RAKT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68360" y="119700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468360" y="177336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ais personības tips ir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reāli domājoši; labprāt strādā roku darbu vai lieto instrumentus un ierīces, risina tehniskas dabas problēmas; rūpējas par augiem un dzīvniekiem, strādā ārā; labprātāk veic praktisku darbu nekā teorētisku, intelektuālu darb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ā vide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fiziskas darbības, darbs ar instrumentiem aparātiem, mašīnām; praktisku uzdevumu risināšana; nepieciešama roku veiklība un tehniskās zināša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MC900186084"/>
          <p:cNvPicPr/>
          <p:nvPr/>
        </p:nvPicPr>
        <p:blipFill>
          <a:blip r:embed="rId1"/>
          <a:stretch/>
        </p:blipFill>
        <p:spPr>
          <a:xfrm>
            <a:off x="7308720" y="4581360"/>
            <a:ext cx="1419480" cy="14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ZZINOŠ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468360" y="162864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od priekšroku pētnieciskai darbībai, lai novērotu, mācītos, analizētu un rastu problēmu risinājumus; raksturīga oriģinalitāte, zinātkāre, analītiskā domāšana; labāk patīk strādāt vienatnē vai vidē, kur nav jākontaktējas un jāsadarbojas ar daudz un dažādiem cilvēkiem, bieži trūkst organizatora tala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jānoskaidro dažādu parādību pamatā esošie iemesli un jāmeklē problēmu risinājums; darbs saistīts ar abstraktu ideju vai dabas un sociālo parādību izpēti, sakarību meklēšanu, jaunu teorētisko atziņu radīšan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advice,answers,asking,cartoons,education,exclamation marks,iStockphoto,learning,librarians,professors,questions,solutions,students,wisdom"/>
          <p:cNvPicPr/>
          <p:nvPr/>
        </p:nvPicPr>
        <p:blipFill>
          <a:blip r:embed="rId1"/>
          <a:stretch/>
        </p:blipFill>
        <p:spPr>
          <a:xfrm>
            <a:off x="7524720" y="2637000"/>
            <a:ext cx="1548000" cy="15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MĀKSLINIEC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468360" y="1557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a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individuālists ar mākslinieciskiem talantiem, radošu domāšanu; labprāt izmanto iztēli un izsaka sevi oriģinālā un nesistemātiskā veidā; nepatīk vienveidība, stingrs darba režīms, darbs ar konkrētiem, precīzi definētiem darba uzdevumiem, instrukci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atklāta, brīva, ar nestrukturētām darba stundām, prasa iniciatīvu un radošu domāšanu; maksimāli novērtē personas mākslinieciskās un emocionālās izpausmes vei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artists,cartoonists,cartoons,entertainment,males,men,persons"/>
          <p:cNvPicPr/>
          <p:nvPr/>
        </p:nvPicPr>
        <p:blipFill>
          <a:blip r:embed="rId1"/>
          <a:srcRect l="0" t="5675" r="0" b="0"/>
          <a:stretch/>
        </p:blipFill>
        <p:spPr>
          <a:xfrm>
            <a:off x="7164360" y="4863960"/>
            <a:ext cx="153036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9528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OCI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468360" y="170028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labprāt strādā ar cilvēkiem, lai informētu, konsultētu, palīdzētu, izglītotu, rūpētos; raksturīgas labas saskarsmes iemaņas, bet nereti trūkt zinātniska un/vai tehniska darba iemaņu, priekšroku dod darbam ar cilvēkiem, nevis ar datiem, lietām vai ide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arbs saistīts ar atbalsta sniegšanu, sociālās labklājības vairošanu, citu cilvēku attīstīšanu un izglītoša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" descr="MC900383366"/>
          <p:cNvPicPr/>
          <p:nvPr/>
        </p:nvPicPr>
        <p:blipFill>
          <a:blip r:embed="rId1"/>
          <a:stretch/>
        </p:blipFill>
        <p:spPr>
          <a:xfrm>
            <a:off x="7020000" y="4653000"/>
            <a:ext cx="1890720" cy="159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UZŅĒMĪG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539640" y="170028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g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špaļāvīgi, ekstraverti cilvēki, kuri labprāt uzņemas risku, pārliecina, vada un ietekmē cilvēkus, nodarbojas paši ar savu biznesu, sasniedz ievērojamu sociālo stāvokli; viņi dod priekšroku vadīt citus, nevis būt vadītiem; bieži pietrūkst zinātniskā darba iemaņ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bu rosinoša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orientācija uz sasniegumiem, konkurence; darbā nepieciešams vadīt un pārliecināt cilvēkus rīkoties, lai sasniegtu organizācijas, finanšu vai ekonomiskos mērķ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MC900383266"/>
          <p:cNvPicPr/>
          <p:nvPr/>
        </p:nvPicPr>
        <p:blipFill>
          <a:blip r:embed="rId1"/>
          <a:stretch/>
        </p:blipFill>
        <p:spPr>
          <a:xfrm>
            <a:off x="7524720" y="5013360"/>
            <a:ext cx="126360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NVENCION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95280" y="162864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tīk pedantisks, precīzs, detalizēts un sistemātisks darbs ar skaitļiem, datiem un informāciju nevis ar cilvēkiem, idejām vai lietām; neiebilst pret instrukciju saņemšanu no citiem cilvēkiem; dod priekšroku būt uzraudzītiem, nevis pašiem pieņemt lēmumus; bieži trūkst māksliniecisko spē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raksturīga darba organizācija un plānošana, darbs parasti tiek veikts birojā, ir saistīts ar datiem, pārskatiem, dokumentiem un prasa kārtību; visas darbības ir prognozējamas un atbilst pieņemtajai kārtīb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9" descr="MC900435981"/>
          <p:cNvPicPr/>
          <p:nvPr/>
        </p:nvPicPr>
        <p:blipFill>
          <a:blip r:embed="rId1"/>
          <a:stretch/>
        </p:blipFill>
        <p:spPr>
          <a:xfrm>
            <a:off x="7740720" y="3357720"/>
            <a:ext cx="1192320" cy="9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RJERAS METODIKAS INTERNET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ašnoteicējs jauniešiem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(Nodarbinātības valsts aģentūras mājas lapas sadaļā „Karjeras pakalpojumi”):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nva.gov.lv/karjera/testi/lv/selfcheck_b/test/new_test/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ersonības tests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(Nacionālās izglītības iespēju datubāzes sadaļā „Karjeras izvēles testi”):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niid.lv/tests/testi/tests4_1.php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MANAS INTERE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39640" y="1628640"/>
          <a:ext cx="8229600" cy="889200"/>
        </p:xfrm>
        <a:graphic>
          <a:graphicData uri="http://schemas.openxmlformats.org/drawingml/2006/table">
            <a:tbl>
              <a:tblPr/>
              <a:tblGrid>
                <a:gridCol w="2743200"/>
                <a:gridCol w="2955960"/>
                <a:gridCol w="253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as man tajā patī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āpē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34920" y="1020600"/>
          <a:ext cx="9112320" cy="5793120"/>
        </p:xfrm>
        <a:graphic>
          <a:graphicData uri="http://schemas.openxmlformats.org/drawingml/2006/table">
            <a:tbl>
              <a:tblPr/>
              <a:tblGrid>
                <a:gridCol w="2701800"/>
                <a:gridCol w="2989440"/>
                <a:gridCol w="3421080"/>
              </a:tblGrid>
              <a:tr h="394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spārējā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ņēmējdarb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jeras vad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8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andas darba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mācī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u pieņem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ēmu risin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iskā dom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švalodu zināš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unikācij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dī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ārliecināt, ietekmēt un «pārdot» savu ide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ānošanas un koordin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mainīgos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oš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stresa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ēlme uzņemties ri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veidot kontaktus un sadarbo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is izpratne (prasme apzināties un izvērtēt savas intereses, spējas, vērtības, u.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iespēju pētīšanas un radīšanas prasmes (darbs ar informatīvajiem resursiem, spēju un iespēju atbilstības izvērtēšana, nepieciešamā atbalsta atra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plānošanas prasmes (iespējamā rīcības plāna izveido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a pieņemšanas pras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tikt galā ar nenoteiktību (risināt konkrētā brīža problēmas, radoši domāt, izglītoties visa mūža garum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7" name="Title 1"/>
          <p:cNvSpPr/>
          <p:nvPr/>
        </p:nvSpPr>
        <p:spPr>
          <a:xfrm>
            <a:off x="250920" y="40464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ARBA TIRGŪ PIEPRASĪTĀS PRAS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Saprast, kāpēc, plānojot karjeru, svarīgi iepazīt se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emācīties analizēt savu ikdienas pieredzi, lai labāk apzinātos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 veidus, kā attīstīt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723960" y="1628640"/>
          <a:ext cx="7016760" cy="431496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erātu rakstī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ācijas vākšanas un apkopošana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analizēt iegūto informāci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orprasmes (Word, Excel, Internets u.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viešu valodas pras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izitā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MĀCĪBĀ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avadīšana kopā ar draugi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karsme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organizēt ci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sadarbo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liktu risinā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aust savas ide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BRĪVAJĀ LAIK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as istabas sakārt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bildības uzņem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beigt iesākto darb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ikt rutīnveida uzdevu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ēt s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ūpīgu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IKDIENAS PIENĀKUM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IEREDZES ANALĪZ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600200"/>
          <a:ext cx="8075520" cy="2286000"/>
        </p:xfrm>
        <a:graphic>
          <a:graphicData uri="http://schemas.openxmlformats.org/drawingml/2006/table">
            <a:tbl>
              <a:tblPr/>
              <a:tblGrid>
                <a:gridCol w="2908440"/>
                <a:gridCol w="2719080"/>
                <a:gridCol w="2448000"/>
              </a:tblGrid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ā man ve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0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DARBA TIRGŪ NEPIECIEŠAMO 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Brīvdienu ceļojumi 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Dažādu analītisku materiālu sagatavošana, kam nepieciešama informācijas vākšana un atlase, kā arī secinājumu izdarī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Mūsdienu informācijas tehnoloģiju − interneta, multimediju − izmant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ATTĪSTĪŠU SAVAS INTERESES UN STIPRĀS P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1844640"/>
          <a:ext cx="8640720" cy="2809800"/>
        </p:xfrm>
        <a:graphic>
          <a:graphicData uri="http://schemas.openxmlformats.org/drawingml/2006/table">
            <a:tbl>
              <a:tblPr/>
              <a:tblGrid>
                <a:gridCol w="3095640"/>
                <a:gridCol w="3384360"/>
                <a:gridCol w="2160720"/>
              </a:tblGrid>
              <a:tr h="42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intereses/stiprās p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varētu darīt, lai tās attīstī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apņemos darī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12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or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meklēt fakultatīvās nodarb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1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ziļināti apgūt darbu ar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n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Po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saistīties programmēšanas konk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68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851280" y="4508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277920" y="1557360"/>
            <a:ext cx="8686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</a:t>
            </a:r>
            <a:r>
              <a:rPr b="1" lang="de-DE" sz="2800" spc="-1" strike="noStrike">
                <a:solidFill>
                  <a:srgbClr val="1f497d"/>
                </a:solidFill>
                <a:latin typeface="Arial"/>
              </a:rPr>
              <a:t>arjeras plānošana</a:t>
            </a: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s soļ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ur un kā iegūt informāciju par se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nalizēt ikdienas pieredz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Dž. Hollanda karjeras teor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ttīstīt savas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3141360"/>
            <a:ext cx="903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R SVARĪGI IEPAZĪT SEVI, </a:t>
            </a:r>
            <a:br>
              <a:rPr sz="4000"/>
            </a:b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LĀNOJOT SAVU KARJERU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Meitene.png"/>
          <p:cNvPicPr/>
          <p:nvPr/>
        </p:nvPicPr>
        <p:blipFill>
          <a:blip r:embed="rId1"/>
          <a:srcRect l="6868" t="4852" r="3846" b="2960"/>
          <a:stretch/>
        </p:blipFill>
        <p:spPr>
          <a:xfrm>
            <a:off x="4140360" y="1700280"/>
            <a:ext cx="83628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uika.png"/>
          <p:cNvPicPr/>
          <p:nvPr/>
        </p:nvPicPr>
        <p:blipFill>
          <a:blip r:embed="rId2"/>
          <a:srcRect l="6868" t="4852" r="10714" b="2960"/>
          <a:stretch/>
        </p:blipFill>
        <p:spPr>
          <a:xfrm>
            <a:off x="5148360" y="1700280"/>
            <a:ext cx="77292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uka_brille.png"/>
          <p:cNvPicPr/>
          <p:nvPr/>
        </p:nvPicPr>
        <p:blipFill>
          <a:blip r:embed="rId3"/>
          <a:srcRect l="6949" t="4852" r="2710" b="2960"/>
          <a:stretch/>
        </p:blipFill>
        <p:spPr>
          <a:xfrm>
            <a:off x="3132000" y="1700280"/>
            <a:ext cx="83664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eitene_medicina_naked.png"/>
          <p:cNvPicPr/>
          <p:nvPr/>
        </p:nvPicPr>
        <p:blipFill>
          <a:blip r:embed="rId4"/>
          <a:stretch/>
        </p:blipFill>
        <p:spPr>
          <a:xfrm>
            <a:off x="4140360" y="4694400"/>
            <a:ext cx="804600" cy="13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uika_inzenieris_naked.png"/>
          <p:cNvPicPr/>
          <p:nvPr/>
        </p:nvPicPr>
        <p:blipFill>
          <a:blip r:embed="rId5"/>
          <a:stretch/>
        </p:blipFill>
        <p:spPr>
          <a:xfrm>
            <a:off x="5135400" y="470844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uka_brille_pavars_naked.png"/>
          <p:cNvPicPr/>
          <p:nvPr/>
        </p:nvPicPr>
        <p:blipFill>
          <a:blip r:embed="rId6"/>
          <a:stretch/>
        </p:blipFill>
        <p:spPr>
          <a:xfrm>
            <a:off x="2771640" y="470844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JĀŅEM VĒRĀ, PLĀNOJOT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nteresē – un kāpēc t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Vai man padodas tas, k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 padodas/ko es protu/kādas ir manas zināšanas? Vai tas mani interesē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rakstura īpaš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erobežo? 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balsta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vērt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o es gribu sasniegt nākotn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SEV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business concepts,businesses,characters,concepts,looking,looks,magnifiers,magnifying,magnifying glasses,people,searches,searching"/>
          <p:cNvPicPr/>
          <p:nvPr/>
        </p:nvPicPr>
        <p:blipFill>
          <a:blip r:embed="rId1"/>
          <a:stretch/>
        </p:blipFill>
        <p:spPr>
          <a:xfrm>
            <a:off x="6659640" y="3819600"/>
            <a:ext cx="17841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..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3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300720" y="350028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50920" y="1412640"/>
            <a:ext cx="820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pašizpētes grāmatas un metodikas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5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balances,balancing,boxes,business concepts,businesses,characters,concepts,juggles,juggling,packages,people,precarious"/>
          <p:cNvPicPr/>
          <p:nvPr/>
        </p:nvPicPr>
        <p:blipFill>
          <a:blip r:embed="rId1"/>
          <a:stretch/>
        </p:blipFill>
        <p:spPr>
          <a:xfrm>
            <a:off x="7524720" y="292428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554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LŪDZIET APKĀRTĒJIEM SNIEGT JUMS ATGRIEZENISKO SAIT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o tu uzskati par manām stiprajām pusēm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as man būt jāattīsta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dā profesijā, tavuprāt, es varētu likt lietā savas stiprās puses? 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9" name="Picture 5" descr="business concepts,businesses,characters,concepts,flowers,gifts,giving,people,presents"/>
          <p:cNvPicPr/>
          <p:nvPr/>
        </p:nvPicPr>
        <p:blipFill>
          <a:blip r:embed="rId1"/>
          <a:srcRect l="0" t="25596" r="0" b="23235"/>
          <a:stretch/>
        </p:blipFill>
        <p:spPr>
          <a:xfrm>
            <a:off x="3059280" y="4508640"/>
            <a:ext cx="32414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9:21:25Z</dcterms:modified>
  <cp:revision>340</cp:revision>
  <dc:subject/>
  <dc:title>Slide 1</dc:title>
</cp:coreProperties>
</file>